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7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FBA-0B04-4D24-AF41-E33F95DD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67-00F9-4729-B69D-41BB2B15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A996-9DB7-49C7-B3EF-6BE210BF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177-56AE-43DB-802B-F47BCD5A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72DD-4509-4DA8-A06D-2C00CA60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0F1F-1EE3-4A31-BC22-B6144FC9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3032-F595-44E9-9ABC-BEBE7ED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1626-FAD1-48B3-AD08-C2D23AA4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1C6D-A98D-41DA-86F3-5CB5F315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CE8C-F8FB-42EB-AA85-6B1CEC2E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4955-0892-4FE1-B814-CA53F94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C2A-CC9A-4A10-BDA4-A686493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EA75-13DB-4799-969F-5AD11BB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76EB-EAE1-4431-A572-370EBAF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CEDF-291E-4512-9621-F57E519A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0F41-786A-42ED-85E5-034DF84A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873-924E-4AA6-AD7E-0915E54A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2F0-7C43-4793-B696-14EE6DF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197-6665-41AF-9BF1-5B36A73A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330-5A5C-4235-8C8F-E6023E08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4F-E6D6-4E0C-BD78-216F885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FAD-BE5D-4462-B422-66B71B58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BD4-792D-47F5-BA9F-92B87ED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3F6-B3B4-4B4C-BBF0-5905A8F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1A3F-81D7-4767-8CF8-4111F35AB9BB}" type="slidenum">
              <a:rPr b="0" lang="zh-CN" sz="8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538360"/>
            <a:ext cx="6406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AA54-8661-49B5-B9E7-D3A6C9171DC2}" type="slidenum"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7280" y="620640"/>
            <a:ext cx="6840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6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、减慢食物变质的速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720" y="6381720"/>
            <a:ext cx="443232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整理者：建德市新安江第一小学 秦爱军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90792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、观察变质的食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7632720" cy="207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小鱼干和腐败的小鱼、干面包和发馊的面包，有哪些不同的地方？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78144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42900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小鱼为什么在短时间里腐败了？鱼干为什么能长时间地保持好闻的气味？</a:t>
            </a:r>
            <a:endParaRPr b="0" lang="en-US" sz="28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想一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为什么可以用这种方法能储存食物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1880" y="537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0560" y="1125360"/>
            <a:ext cx="6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21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5075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判断题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的。（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微生物的生长与繁殖，需要空气、水分和适宜的温度。（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闻变质食物的气味时，要扇闻，并尽量少闻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（       ）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260280"/>
            <a:ext cx="352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20696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填空：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食物的腐败变质是（            ）引起的。使面包发霉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霉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就是（        ），还有许多肉眼看不见、用放大镜也看不见的</a:t>
            </a:r>
            <a:r>
              <a:rPr b="0" lang="zh-CN" sz="2000" spc="-1" strike="noStrike">
                <a:solidFill>
                  <a:srgbClr val="ff00ff"/>
                </a:solidFill>
                <a:latin typeface="Arial Narrow"/>
              </a:rPr>
              <a:t>细菌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，也是（           ）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◆</a:t>
            </a:r>
            <a:r>
              <a:rPr b="0" lang="zh-CN" sz="2000" spc="-1" strike="noStrike">
                <a:solidFill>
                  <a:srgbClr val="003300"/>
                </a:solidFill>
                <a:latin typeface="Arial Narrow"/>
              </a:rPr>
              <a:t>微生物的生长与繁殖和植物、动物一样，需要一定的条件。在（         ）的环境里，它们能很快地繁殖。越来越多的微生物分解、吸收食物中的（       ），同时排出（      ），使食物不再是原来的样子，食物（               ）了。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雨林木风</dc:creator>
  <dc:description/>
  <dc:language>en-US</dc:language>
  <cp:lastModifiedBy>微软用户</cp:lastModifiedBy>
  <dcterms:modified xsi:type="dcterms:W3CDTF">2010-02-18T13:46:21Z</dcterms:modified>
  <cp:revision>12</cp:revision>
  <dc:subject/>
  <dc:title>幻灯片 1</dc:title>
</cp:coreProperties>
</file>